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3AA-89EC-4FB0-898B-D312777D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DF6-CBDB-4B64-BAAF-AEF7D092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6FA-AC76-4316-915F-519333CF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DBC1-9779-441A-AEA0-9518B9EF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F43-D765-4598-B8BA-132B5791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10A-472F-4F54-8D4E-80C99BA1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FB4-0CAD-4A6E-83C3-D9C5D3BB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4E0-2633-4980-8150-D9C2AF7A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75A-2BAE-4F07-A29E-2DA5D12E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8AF8-E7D6-4251-A009-6E21DF1E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9F8-07D2-4E94-991F-4559FB50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031-19BA-470B-B6B9-40CF307E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8CC2-ABE7-495C-B5A3-572E9D126C0A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65FF-FE2C-4C72-8296-ADBEE40266A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404640"/>
            <a:ext cx="67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м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әк һәм ботка, чәй һәм кофе туры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иң кадерле, иң кирәк, иң тәмле ризык. Башак ипи я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отка     булып өстәлгә    килгәнче зур юл 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пи басуда үсә, ә аны үстерүдә күп ке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кешеләр зур хезмәт куя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Хәзер кешегә машиналар ярдәмгә килә. Барыб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үстерү авыр эш булып к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кмәк – ил тотк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пи-тоз – якты йөз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ез икмәкне олыларга, кадерләргә тиеш. Икмәкне үстергә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пешергән кешеләрне хөрмәт  итәргә тиешб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Камыр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82AF-B10E-4487-8008-E12D77B656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Камыр басала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5A62-C3E9-4009-847F-31EFCC8244C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Икмәкне өйдә дә пешереп бу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F327-B7FA-470B-AFDF-1F4C1CA0FC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Икмәк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BA69-F1E6-46E6-9AEC-370EB051C51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46c0a"/>
                </a:solidFill>
                <a:latin typeface="Arial"/>
              </a:rPr>
              <a:t>И</a:t>
            </a:r>
            <a:r>
              <a:rPr b="1" lang="tt-RU" sz="9600" spc="-1" strike="noStrike">
                <a:solidFill>
                  <a:srgbClr val="e46c0a"/>
                </a:solidFill>
                <a:latin typeface="Arial"/>
              </a:rPr>
              <a:t>кмәк кайдан килә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6AE0-6588-4A9D-A812-D51697F1CC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лыкларны чәчәләр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9EFD-E023-482C-B8F7-8E17B20C000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иналар ярдәмгә килә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5C8A-A98B-40BF-902F-43CAE3C8FFF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Шушындый башаклар үсеп чы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Нижний колонтитул 5"/>
          <p:cNvSpPr/>
          <p:nvPr/>
        </p:nvSpPr>
        <p:spPr>
          <a:xfrm>
            <a:off x="3203640" y="62373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59A9-C441-4EAA-9105-AC27DAE7AD7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Башакларны 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мбайн</a:t>
            </a: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нар җыя.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81D2-E65B-4A30-8785-692D7C3FE6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Уңышны тегермәнгә илтәлә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6818-C87F-410B-878D-60910AC912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Орлыклардан он ясыйла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76C0-02EF-405D-8281-637C7AD32D7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Оннан икмәк пешерәләр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BB42-938C-46ED-8D7F-F1C74273C1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FuckYouBill</cp:lastModifiedBy>
  <dcterms:modified xsi:type="dcterms:W3CDTF">2013-01-13T06:58:39Z</dcterms:modified>
  <cp:revision>31</cp:revision>
  <dc:subject/>
  <dc:title>Откуда к нам хлеб пришёл</dc:title>
</cp:coreProperties>
</file>